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12C-45F1-4455-B5E5-115C51C737EE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CBE9CC-2836-42EA-A3F4-C65E081B74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7B6-45E5-4F9D-9D22-7612A7BE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53D-6980-4650-B816-14127C82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279-6C4F-44BC-A563-1EDDDEDA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D46-00DE-49EE-80A5-FF527B43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0AE-C849-4C3A-AA62-68384506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669-3345-4FC5-A38B-2A9B9B2C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B07-E05A-4A3F-8EF1-211B7C4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3E6-95F7-4D22-972B-2F2C4365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EDD-915C-42DA-8A33-38D64E8F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C6F-5172-4EF1-8D82-9DE315C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93A-5850-4176-B59F-ADA64F0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028-1692-463A-A15E-4B9FC5E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DF7-13F0-4C0C-A2E7-A40FEBF1A3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gradFill rotWithShape="0">
            <a:gsLst>
              <a:gs pos="0">
                <a:srgbClr val="547074"/>
              </a:gs>
              <a:gs pos="50000">
                <a:srgbClr val="b5f1fb"/>
              </a:gs>
              <a:gs pos="100000">
                <a:srgbClr val="5470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"Bioquímica del estrés oxidativo en Vegetales"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5f1fb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Optativo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c. en Bio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c. en Biología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3"/>
          <p:cNvSpPr/>
          <p:nvPr/>
        </p:nvSpPr>
        <p:spPr>
          <a:xfrm>
            <a:off x="7236000" y="2276640"/>
            <a:ext cx="1223640" cy="72072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OPIEDADES GENERALES DE LAS 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84360" y="2276640"/>
            <a:ext cx="1079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141640" y="2349360"/>
            <a:ext cx="4860720" cy="160848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AMENTE RE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 la especie más fuertemente oxi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al ADN, proteínas, lípidos. Sustrae protones; Se une a dobles enlaces (por ej. Ac. Grasos  insatur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84360" y="429264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212920" y="4437000"/>
            <a:ext cx="4718160" cy="122868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TUA COMO OXIDANTE O RE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MUTA A 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uede atravesar las membr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duce metales de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7451640" y="4365720"/>
            <a:ext cx="1079640" cy="71892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39640" y="54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adical superó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11280" y="3219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adical hidrox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6"/>
          <p:cNvSpPr/>
          <p:nvPr/>
        </p:nvSpPr>
        <p:spPr>
          <a:xfrm>
            <a:off x="900000" y="105264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374920" y="1125360"/>
            <a:ext cx="4645080" cy="91692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ransfiere su En de excitación a otras moléculas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orma endoperóxidos ó hidroperóx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55640" y="1989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singu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7236000" y="1052640"/>
            <a:ext cx="1512720" cy="100944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900000" y="386064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11280" y="5013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óxido de hidr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374920" y="4076640"/>
            <a:ext cx="4392720" cy="119124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 MODERADAMENTE  RE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presencia de metales forma el radical hidrox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xida grupos tioles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7451640" y="4365720"/>
            <a:ext cx="1079640" cy="93636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 m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1 Rectángulo"/>
          <p:cNvSpPr/>
          <p:nvPr/>
        </p:nvSpPr>
        <p:spPr>
          <a:xfrm>
            <a:off x="468360" y="907920"/>
            <a:ext cx="83516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oper Black"/>
              </a:rPr>
              <a:t>La alta inestabilidad electrónica de las EAO les hace colisionar con las biomoléculas, les sustraen un electrón y las oxid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oper Black"/>
              </a:rPr>
              <a:t>Esto provoca un cambio estructural en la molécula que la lleva a perder la función biológica específica que desempeñaba en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92232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RADICAL SUPERÓXIDO (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 rot="5400000">
            <a:off x="2502360" y="-334080"/>
            <a:ext cx="2808360" cy="6445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971640" y="4581360"/>
            <a:ext cx="6048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enzimát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z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ales de trans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antina y aldehíd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les, quinonas, flavi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cromo P-4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mo-, mioglobi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H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468360" y="1341360"/>
            <a:ext cx="8207280" cy="489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Dismutación del superóx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pontánea o catalizada por S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ducción enzimática de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2232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PERÓXIDO DE HIDRÓGENO (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900000" y="2781360"/>
            <a:ext cx="6480360" cy="579600"/>
            <a:chOff x="900000" y="2781360"/>
            <a:chExt cx="6480360" cy="579600"/>
          </a:xfrm>
        </p:grpSpPr>
        <p:sp>
          <p:nvSpPr>
            <p:cNvPr id="110" name="Text Box 8"/>
            <p:cNvSpPr/>
            <p:nvPr/>
          </p:nvSpPr>
          <p:spPr>
            <a:xfrm>
              <a:off x="900000" y="2781360"/>
              <a:ext cx="648036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2 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.-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+  2 H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               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+   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3565440" y="3068640"/>
              <a:ext cx="1295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1042920" y="5084640"/>
            <a:ext cx="6480000" cy="579600"/>
            <a:chOff x="1042920" y="5084640"/>
            <a:chExt cx="6480000" cy="579600"/>
          </a:xfrm>
        </p:grpSpPr>
        <p:sp>
          <p:nvSpPr>
            <p:cNvPr id="113" name="Text Box 10"/>
            <p:cNvSpPr/>
            <p:nvPr/>
          </p:nvSpPr>
          <p:spPr>
            <a:xfrm>
              <a:off x="1042920" y="5084640"/>
              <a:ext cx="648000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+ 2 e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+ 2 H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                     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4211640" y="5373720"/>
              <a:ext cx="180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24000" y="1341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Reacción de Haber-W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Reacción de Fen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78000" y="333360"/>
            <a:ext cx="8388000" cy="6912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RADICAL HIDROXILO (HO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835280" y="407664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58920" y="2852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5"/>
          <p:cNvGrpSpPr/>
          <p:nvPr/>
        </p:nvGrpSpPr>
        <p:grpSpPr>
          <a:xfrm>
            <a:off x="826920" y="2060640"/>
            <a:ext cx="7559640" cy="579600"/>
            <a:chOff x="826920" y="2060640"/>
            <a:chExt cx="7559640" cy="579600"/>
          </a:xfrm>
        </p:grpSpPr>
        <p:sp>
          <p:nvSpPr>
            <p:cNvPr id="120" name="Text Box 13"/>
            <p:cNvSpPr/>
            <p:nvPr/>
          </p:nvSpPr>
          <p:spPr>
            <a:xfrm>
              <a:off x="826920" y="2060640"/>
              <a:ext cx="755964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.-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+ 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                      </a:t>
              </a:r>
              <a:r>
                <a:rPr b="1" lang="es-ES_tradnl" sz="2800" spc="-1" strike="noStrike">
                  <a:solidFill>
                    <a:srgbClr val="fb1525"/>
                  </a:solidFill>
                  <a:latin typeface="Arial"/>
                </a:rPr>
                <a:t>HO</a:t>
              </a:r>
              <a:r>
                <a:rPr b="1" lang="es-ES_tradnl" sz="2800" spc="-1" strike="noStrike" baseline="30000">
                  <a:solidFill>
                    <a:srgbClr val="fb1525"/>
                  </a:solidFill>
                  <a:latin typeface="Arial"/>
                </a:rPr>
                <a:t>.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+ HO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-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+ 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4"/>
            <p:cNvSpPr/>
            <p:nvPr/>
          </p:nvSpPr>
          <p:spPr>
            <a:xfrm>
              <a:off x="3492360" y="2347920"/>
              <a:ext cx="1295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7"/>
          <p:cNvSpPr/>
          <p:nvPr/>
        </p:nvSpPr>
        <p:spPr>
          <a:xfrm>
            <a:off x="720" y="-360"/>
            <a:ext cx="66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720" y="-360"/>
            <a:ext cx="66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755640" y="3213000"/>
            <a:ext cx="7632720" cy="579600"/>
            <a:chOff x="755640" y="3213000"/>
            <a:chExt cx="7632720" cy="579600"/>
          </a:xfrm>
        </p:grpSpPr>
        <p:sp>
          <p:nvSpPr>
            <p:cNvPr id="125" name="Text Box 19"/>
            <p:cNvSpPr/>
            <p:nvPr/>
          </p:nvSpPr>
          <p:spPr>
            <a:xfrm>
              <a:off x="755640" y="3213000"/>
              <a:ext cx="76327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+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                   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_tradnl" sz="2800" spc="-1" strike="noStrike">
                  <a:solidFill>
                    <a:srgbClr val="fb1525"/>
                  </a:solidFill>
                  <a:latin typeface="Arial"/>
                </a:rPr>
                <a:t>HO</a:t>
              </a:r>
              <a:r>
                <a:rPr b="1" lang="es-ES_tradnl" sz="2800" spc="-1" strike="noStrike" baseline="30000">
                  <a:solidFill>
                    <a:srgbClr val="fb1525"/>
                  </a:solidFill>
                  <a:latin typeface="Arial"/>
                </a:rPr>
                <a:t>.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+ HO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>
              <a:off x="3492360" y="3501720"/>
              <a:ext cx="12924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4"/>
          <p:cNvGrpSpPr/>
          <p:nvPr/>
        </p:nvGrpSpPr>
        <p:grpSpPr>
          <a:xfrm>
            <a:off x="755640" y="4149720"/>
            <a:ext cx="7632720" cy="579600"/>
            <a:chOff x="755640" y="4149720"/>
            <a:chExt cx="7632720" cy="579600"/>
          </a:xfrm>
        </p:grpSpPr>
        <p:sp>
          <p:nvSpPr>
            <p:cNvPr id="128" name="Text Box 25"/>
            <p:cNvSpPr/>
            <p:nvPr/>
          </p:nvSpPr>
          <p:spPr>
            <a:xfrm>
              <a:off x="755640" y="4149720"/>
              <a:ext cx="7632720" cy="579600"/>
            </a:xfrm>
            <a:prstGeom prst="rect">
              <a:avLst/>
            </a:prstGeom>
            <a:solidFill>
              <a:srgbClr val="d0f6f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+ 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Arial"/>
                </a:rPr>
                <a:t>.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   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_tradnl" sz="2800" spc="-1" strike="noStrike">
                  <a:solidFill>
                    <a:srgbClr val="fb1525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fb1525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3492360" y="4438440"/>
              <a:ext cx="12924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20 Grupo"/>
          <p:cNvGrpSpPr/>
          <p:nvPr/>
        </p:nvGrpSpPr>
        <p:grpSpPr>
          <a:xfrm>
            <a:off x="755640" y="4869000"/>
            <a:ext cx="6697800" cy="1655640"/>
            <a:chOff x="755640" y="4869000"/>
            <a:chExt cx="6697800" cy="1655640"/>
          </a:xfrm>
        </p:grpSpPr>
        <p:pic>
          <p:nvPicPr>
            <p:cNvPr id="131" name="Picture 8" descr=""/>
            <p:cNvPicPr/>
            <p:nvPr/>
          </p:nvPicPr>
          <p:blipFill>
            <a:blip r:embed="rId1"/>
            <a:stretch/>
          </p:blipFill>
          <p:spPr>
            <a:xfrm>
              <a:off x="755640" y="4869000"/>
              <a:ext cx="66978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7"/>
            <p:cNvSpPr/>
            <p:nvPr/>
          </p:nvSpPr>
          <p:spPr>
            <a:xfrm>
              <a:off x="1403280" y="5805720"/>
              <a:ext cx="504720" cy="440640"/>
            </a:xfrm>
            <a:prstGeom prst="rect">
              <a:avLst/>
            </a:prstGeom>
            <a:solidFill>
              <a:srgbClr val="d0f6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A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8"/>
            <p:cNvSpPr/>
            <p:nvPr/>
          </p:nvSpPr>
          <p:spPr>
            <a:xfrm rot="964800">
              <a:off x="2123640" y="5229360"/>
              <a:ext cx="288720" cy="93672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190800 h 936720"/>
                <a:gd name="textAreaBottom" fmla="*/ 6102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803" stAng="-5400000" swAng="-5400000"/>
                  <a:lnTo>
                    <a:pt x="0" y="9667"/>
                  </a:lnTo>
                  <a:arcTo wR="21600" hR="8803" stAng="10800000" swAng="-3104374"/>
                  <a:lnTo>
                    <a:pt x="14991" y="21178"/>
                  </a:lnTo>
                  <a:lnTo>
                    <a:pt x="21600" y="18037"/>
                  </a:lnTo>
                  <a:lnTo>
                    <a:pt x="14991" y="14052"/>
                  </a:lnTo>
                  <a:lnTo>
                    <a:pt x="14991" y="17183"/>
                  </a:lnTo>
                  <a:arcTo wR="21600" hR="8803" stAng="7695626" swAng="3035545"/>
                  <a:lnTo>
                    <a:pt x="26" y="9235"/>
                  </a:lnTo>
                  <a:arcTo wR="21600" hR="8803" stAng="-10731171" swAng="5331171"/>
                  <a:close/>
                </a:path>
                <a:path fill="darkenLess" w="21600" h="21600">
                  <a:moveTo>
                    <a:pt x="21600" y="0"/>
                  </a:moveTo>
                  <a:arcTo wR="21600" hR="8803" stAng="-5400000" swAng="-5400000"/>
                  <a:lnTo>
                    <a:pt x="0" y="8803"/>
                  </a:lnTo>
                  <a:arcTo wR="21600" hR="8803" stAng="10800000" swAng="-68829"/>
                  <a:lnTo>
                    <a:pt x="26" y="9235"/>
                  </a:lnTo>
                  <a:arcTo wR="21600" hR="8803" stAng="-10731171" swAng="533117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9"/>
            <p:cNvSpPr/>
            <p:nvPr/>
          </p:nvSpPr>
          <p:spPr>
            <a:xfrm>
              <a:off x="1908000" y="5373720"/>
              <a:ext cx="215640" cy="79200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52280 h 792000"/>
                <a:gd name="textAreaBottom" fmla="*/ 56052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311" stAng="-5400000" swAng="5400000"/>
                  <a:lnTo>
                    <a:pt x="21600" y="11125"/>
                  </a:lnTo>
                  <a:arcTo wR="21600" hR="8311" stAng="0" swAng="2859474"/>
                  <a:lnTo>
                    <a:pt x="7147" y="21132"/>
                  </a:lnTo>
                  <a:lnTo>
                    <a:pt x="0" y="18029"/>
                  </a:lnTo>
                  <a:lnTo>
                    <a:pt x="7147" y="13990"/>
                  </a:lnTo>
                  <a:lnTo>
                    <a:pt x="7147" y="16154"/>
                  </a:lnTo>
                  <a:arcTo wR="21600" hR="8311" stAng="2859474" swAng="-2632593"/>
                  <a:lnTo>
                    <a:pt x="21288" y="9718"/>
                  </a:lnTo>
                  <a:arcTo wR="21600" hR="8311" stAng="-226881" swAng="-5173119"/>
                  <a:close/>
                </a:path>
                <a:path fill="darkenLess" w="21600" h="21600">
                  <a:moveTo>
                    <a:pt x="0" y="0"/>
                  </a:moveTo>
                  <a:arcTo wR="21600" hR="8311" stAng="-5400000" swAng="5400000"/>
                  <a:lnTo>
                    <a:pt x="21600" y="11125"/>
                  </a:lnTo>
                  <a:arcTo wR="21600" hR="8311" stAng="0" swAng="-226881"/>
                  <a:lnTo>
                    <a:pt x="21288" y="9718"/>
                  </a:lnTo>
                  <a:arcTo wR="21600" hR="8311" stAng="-226881" swAng="-517311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4247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TIOS DE PRODUCCION DE EROS EN PLA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gradFill rotWithShape="0">
            <a:gsLst>
              <a:gs pos="0">
                <a:srgbClr val="6b754b"/>
              </a:gs>
              <a:gs pos="100000">
                <a:srgbClr val="e7fda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 nivel de los fotosistemas I (PSI) y II (PS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tocond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urante el transporte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so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plejo citocromo P-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xiso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xidación de glicolato en el carbono 2. Oxidación de ácidos grasos(Flavoproteína-AcilCoA Oxid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oxiso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xidación de ácidos grasos. (Flavoproteína-AcilCoA Oxid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mbr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eroxidación de lípidos y acción de 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DPH oxid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ed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oxidasas y oxid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oplast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minooxida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ticipan en la formación de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Oxalato oxidasa (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:\Oxidative Stress_archivos\IMG00020.gif"/>
          <p:cNvPicPr/>
          <p:nvPr/>
        </p:nvPicPr>
        <p:blipFill>
          <a:blip r:embed="rId1"/>
          <a:stretch/>
        </p:blipFill>
        <p:spPr>
          <a:xfrm>
            <a:off x="762120" y="1143000"/>
            <a:ext cx="7467480" cy="4498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740320" y="685800"/>
            <a:ext cx="3882600" cy="3988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Dónde se producen las E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95280" y="579132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tios de producción de EAO en el sistema de transporte electrónico del cloroplast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86240"/>
          </a:xfrm>
          <a:prstGeom prst="rect">
            <a:avLst/>
          </a:prstGeom>
          <a:ln w="0">
            <a:noFill/>
          </a:ln>
        </p:spPr>
      </p:pic>
      <p:sp>
        <p:nvSpPr>
          <p:cNvPr id="142" name="1 Rectángulo"/>
          <p:cNvSpPr/>
          <p:nvPr/>
        </p:nvSpPr>
        <p:spPr>
          <a:xfrm>
            <a:off x="23760" y="0"/>
            <a:ext cx="91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tios de formación de Superóxido en el sistema de transporte electrónico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CuadroTexto"/>
          <p:cNvSpPr/>
          <p:nvPr/>
        </p:nvSpPr>
        <p:spPr>
          <a:xfrm>
            <a:off x="4082400" y="4149720"/>
            <a:ext cx="2038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Oxidasa altern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7280" y="1165320"/>
            <a:ext cx="8569440" cy="4525920"/>
          </a:xfrm>
          <a:prstGeom prst="rect">
            <a:avLst/>
          </a:prstGeom>
          <a:gradFill rotWithShape="0">
            <a:gsLst>
              <a:gs pos="0">
                <a:srgbClr val="547074"/>
              </a:gs>
              <a:gs pos="100000">
                <a:srgbClr val="b5f1f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MA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PECIES REACTIVAS DEL OXI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MA 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NZIMAS ANTIOXI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MA 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SUSTANCIAS ANTIOXI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CULO ENDOPLASMICO (Microso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35880" cy="1252440"/>
          </a:xfrm>
          <a:prstGeom prst="rect">
            <a:avLst/>
          </a:prstGeom>
          <a:solidFill>
            <a:srgbClr val="e7fda1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IGENASAS DE FUNCION MIX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DPH agente re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2962440"/>
            <a:ext cx="8353440" cy="510120"/>
            <a:chOff x="395280" y="2962440"/>
            <a:chExt cx="8353440" cy="510120"/>
          </a:xfrm>
        </p:grpSpPr>
        <p:sp>
          <p:nvSpPr>
            <p:cNvPr id="147" name="Text Box 4"/>
            <p:cNvSpPr/>
            <p:nvPr/>
          </p:nvSpPr>
          <p:spPr>
            <a:xfrm>
              <a:off x="395280" y="2962440"/>
              <a:ext cx="8353440" cy="5101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H  +  NADPH  +  H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  +  O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           ROH  +  NAD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  +  H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4572000" y="3141720"/>
              <a:ext cx="57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1 Grupo"/>
          <p:cNvGrpSpPr/>
          <p:nvPr/>
        </p:nvGrpSpPr>
        <p:grpSpPr>
          <a:xfrm>
            <a:off x="324000" y="3645000"/>
            <a:ext cx="8589960" cy="2952720"/>
            <a:chOff x="324000" y="3645000"/>
            <a:chExt cx="8589960" cy="2952720"/>
          </a:xfrm>
        </p:grpSpPr>
        <p:sp>
          <p:nvSpPr>
            <p:cNvPr id="150" name="Rectangle 21"/>
            <p:cNvSpPr/>
            <p:nvPr/>
          </p:nvSpPr>
          <p:spPr>
            <a:xfrm>
              <a:off x="324000" y="3645000"/>
              <a:ext cx="8589960" cy="2952720"/>
            </a:xfrm>
            <a:prstGeom prst="rect">
              <a:avLst/>
            </a:prstGeom>
            <a:solidFill>
              <a:srgbClr val="d0f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H-P450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•-P45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R•-P450  + 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P450-RHOO  ó  P450-ROO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P450-ROO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+  RH-P45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450-ROO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450   +  RHO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2"/>
            <p:cNvSpPr/>
            <p:nvPr/>
          </p:nvSpPr>
          <p:spPr>
            <a:xfrm>
              <a:off x="2700360" y="3990960"/>
              <a:ext cx="23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2627280" y="6382080"/>
              <a:ext cx="23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2987640" y="5373720"/>
              <a:ext cx="1655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>
              <a:off x="2987640" y="4724280"/>
              <a:ext cx="15843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ARED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031760"/>
            <a:ext cx="4789440" cy="182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cciones dependientes de 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ensa contra pató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gradación de 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íntesis de lig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214960" y="260280"/>
            <a:ext cx="3851280" cy="82296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IAMINOOXIDAS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NAD/NADP-OXIDAS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8360" y="4684680"/>
            <a:ext cx="3457440" cy="92232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MB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909720" y="4005360"/>
            <a:ext cx="6913440" cy="440640"/>
            <a:chOff x="909720" y="4005360"/>
            <a:chExt cx="6913440" cy="440640"/>
          </a:xfrm>
        </p:grpSpPr>
        <p:sp>
          <p:nvSpPr>
            <p:cNvPr id="160" name="Text Box 6"/>
            <p:cNvSpPr/>
            <p:nvPr/>
          </p:nvSpPr>
          <p:spPr>
            <a:xfrm>
              <a:off x="909720" y="4005360"/>
              <a:ext cx="6913440" cy="440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minas biógenas                  N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+  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 Aldehí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>
              <a:off x="3286080" y="4221360"/>
              <a:ext cx="863280" cy="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9"/>
          <p:cNvSpPr/>
          <p:nvPr/>
        </p:nvSpPr>
        <p:spPr>
          <a:xfrm>
            <a:off x="5208480" y="4903920"/>
            <a:ext cx="2448000" cy="86148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NADPH oxidasa (N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468360" y="3033720"/>
            <a:ext cx="3456000" cy="9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4"/>
          <a:stretch/>
        </p:blipFill>
        <p:spPr>
          <a:xfrm>
            <a:off x="5214960" y="3067200"/>
            <a:ext cx="25048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Rectángulo"/>
          <p:cNvSpPr/>
          <p:nvPr/>
        </p:nvSpPr>
        <p:spPr>
          <a:xfrm>
            <a:off x="0" y="476280"/>
            <a:ext cx="91440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lioxisomas y peroxi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lioxisom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on organelas con una membrana simple que compartimentalizan enzimas involucradas en l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oxidación de ácidos grasos y en el ciclo del ácido glioxí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o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oxisom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e encuentran catalasas, peroxidasas, xantina oxidasa y glicolato oxid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glicolato oxidasa produce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 dos transferencias de electrones desde el glicolato al oxíg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Xantino oxidasa, urato oxidasa y las NADH oxidasas generan superóxido como una consecuencia de la oxidación de sus sustr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ON DE 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ABIO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BIO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403280" y="2421000"/>
            <a:ext cx="3673440" cy="1295280"/>
          </a:xfrm>
          <a:prstGeom prst="ellipse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TOR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1332000" y="5300640"/>
            <a:ext cx="3673440" cy="1295280"/>
          </a:xfrm>
          <a:prstGeom prst="ellipse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OG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651640" y="2133720"/>
            <a:ext cx="3097080" cy="203724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s temperatu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entes de Radi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ntración s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diciones pH extr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67280" y="5300640"/>
            <a:ext cx="2592360" cy="120276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64000" y="1052640"/>
            <a:ext cx="2087640" cy="812520"/>
          </a:xfrm>
          <a:prstGeom prst="rect">
            <a:avLst/>
          </a:pr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ENTES EXO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456000" y="2492280"/>
            <a:ext cx="2374920" cy="936720"/>
          </a:xfrm>
          <a:prstGeom prst="rect">
            <a:avLst/>
          </a:pr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ENTES ENDO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6012000" y="306864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372360" y="2708280"/>
            <a:ext cx="252072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ETABOLISM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084720" y="1052640"/>
            <a:ext cx="279252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BIOTICOS O ABIO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2987640" y="17733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987640" y="2421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22200" y="1844640"/>
            <a:ext cx="2594160" cy="771480"/>
          </a:xfrm>
          <a:prstGeom prst="rect">
            <a:avLst/>
          </a:prstGeom>
          <a:gradFill rotWithShape="0">
            <a:gsLst>
              <a:gs pos="0">
                <a:srgbClr val="6b744b"/>
              </a:gs>
              <a:gs pos="50000">
                <a:srgbClr val="e8fba3"/>
              </a:gs>
              <a:gs pos="100000">
                <a:srgbClr val="6b74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DUCCIÓN DE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181160" y="4076640"/>
            <a:ext cx="863640" cy="2016360"/>
          </a:xfrm>
          <a:prstGeom prst="upArrow">
            <a:avLst>
              <a:gd name="adj1" fmla="val 50000"/>
              <a:gd name="adj2" fmla="val 58368"/>
            </a:avLst>
          </a:prstGeom>
          <a:solidFill>
            <a:srgbClr val="eb15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044800" y="4869000"/>
            <a:ext cx="194292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989520" y="5229360"/>
            <a:ext cx="1439640" cy="431640"/>
          </a:xfrm>
          <a:custGeom>
            <a:avLst/>
            <a:gdLst>
              <a:gd name="textAreaLeft" fmla="*/ 252000 w 1439640"/>
              <a:gd name="textAreaRight" fmla="*/ 1044000 w 143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5221440" y="4005360"/>
            <a:ext cx="3922560" cy="2232000"/>
          </a:xfrm>
          <a:prstGeom prst="irregularSeal2">
            <a:avLst/>
          </a:prstGeom>
          <a:gradFill rotWithShape="0">
            <a:gsLst>
              <a:gs pos="0">
                <a:srgbClr val="ad652f"/>
              </a:gs>
              <a:gs pos="50000">
                <a:srgbClr val="ed8b41"/>
              </a:gs>
              <a:gs pos="100000">
                <a:srgbClr val="ad6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ÉS OXID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n 3" descr=""/>
          <p:cNvPicPr/>
          <p:nvPr/>
        </p:nvPicPr>
        <p:blipFill>
          <a:blip r:embed="rId1"/>
          <a:stretch/>
        </p:blipFill>
        <p:spPr>
          <a:xfrm>
            <a:off x="312840" y="304920"/>
            <a:ext cx="8516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227160" y="476280"/>
            <a:ext cx="8737560" cy="6084720"/>
          </a:xfrm>
          <a:prstGeom prst="rect">
            <a:avLst/>
          </a:prstGeom>
          <a:ln w="0">
            <a:noFill/>
          </a:ln>
        </p:spPr>
      </p:pic>
      <p:sp>
        <p:nvSpPr>
          <p:cNvPr id="52" name="1 Rectángulo"/>
          <p:cNvSpPr/>
          <p:nvPr/>
        </p:nvSpPr>
        <p:spPr>
          <a:xfrm>
            <a:off x="0" y="-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oper Black"/>
              </a:rPr>
              <a:t>En la naturaleza todo es oxidado por el oxí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205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6b744b"/>
              </a:gs>
              <a:gs pos="50000">
                <a:srgbClr val="e8fba3"/>
              </a:gs>
              <a:gs pos="100000">
                <a:srgbClr val="6b744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CANISMOS DE DEFENSA ENZIMA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Ascorbato 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Superóxido 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Glutatión 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5219640" y="1484280"/>
            <a:ext cx="1873440" cy="107964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5508720" y="2708280"/>
            <a:ext cx="1873080" cy="107964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O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4932360" y="4005360"/>
            <a:ext cx="1873080" cy="107928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3276720" y="5516640"/>
            <a:ext cx="1873080" cy="107928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11280" y="5589720"/>
            <a:ext cx="1152720" cy="28728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4356000" y="2706840"/>
            <a:ext cx="1440000" cy="35856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995640" y="4149720"/>
            <a:ext cx="1152720" cy="28728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211640" y="1698480"/>
            <a:ext cx="1152360" cy="28764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H="1">
            <a:off x="2916000" y="4173480"/>
            <a:ext cx="16556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5076720" y="4149720"/>
            <a:ext cx="1656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5800"/>
                </a:solidFill>
                <a:latin typeface="Arial"/>
              </a:rPr>
              <a:t>Ascorbato peroxidasa</a:t>
            </a:r>
            <a:br>
              <a:rPr sz="3600"/>
            </a:br>
            <a:r>
              <a:rPr b="1" i="1" lang="es-ES" sz="3600" spc="-1" strike="noStrike">
                <a:solidFill>
                  <a:srgbClr val="005800"/>
                </a:solidFill>
                <a:latin typeface="Arial"/>
              </a:rPr>
              <a:t>EC 1.6.5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3995640" y="2421000"/>
            <a:ext cx="3097440" cy="1008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ASCORB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5280" y="2133720"/>
            <a:ext cx="2160720" cy="520560"/>
          </a:xfrm>
          <a:prstGeom prst="rect">
            <a:avLst/>
          </a:prstGeom>
          <a:noFill/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1302"/>
                </a:solidFill>
                <a:latin typeface="Arial"/>
              </a:rPr>
              <a:t>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 flipV="1">
            <a:off x="2700360" y="2060640"/>
            <a:ext cx="12970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4140360" y="1557360"/>
            <a:ext cx="180000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2771640" y="2565360"/>
            <a:ext cx="1152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0"/>
          <p:cNvGrpSpPr/>
          <p:nvPr/>
        </p:nvGrpSpPr>
        <p:grpSpPr>
          <a:xfrm>
            <a:off x="395280" y="3645000"/>
            <a:ext cx="5113080" cy="875880"/>
            <a:chOff x="395280" y="3645000"/>
            <a:chExt cx="5113080" cy="875880"/>
          </a:xfrm>
        </p:grpSpPr>
        <p:sp>
          <p:nvSpPr>
            <p:cNvPr id="213" name="Text Box 11"/>
            <p:cNvSpPr/>
            <p:nvPr/>
          </p:nvSpPr>
          <p:spPr>
            <a:xfrm>
              <a:off x="395280" y="3645000"/>
              <a:ext cx="5113080" cy="875880"/>
            </a:xfrm>
            <a:prstGeom prst="rect">
              <a:avLst/>
            </a:prstGeom>
            <a:solidFill>
              <a:srgbClr val="e8f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+ AsA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O  +  MDHA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2340000" y="3933720"/>
              <a:ext cx="7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4140000" y="3645000"/>
              <a:ext cx="1297080" cy="863640"/>
            </a:xfrm>
            <a:prstGeom prst="rect">
              <a:avLst/>
            </a:prstGeom>
            <a:solidFill>
              <a:srgbClr val="99cc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14"/>
          <p:cNvSpPr/>
          <p:nvPr/>
        </p:nvSpPr>
        <p:spPr>
          <a:xfrm rot="1186200">
            <a:off x="3924000" y="48970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179280" y="5373720"/>
            <a:ext cx="2843280" cy="96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. ASCORB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3564000" y="4826160"/>
            <a:ext cx="431640" cy="647640"/>
          </a:xfrm>
          <a:custGeom>
            <a:avLst/>
            <a:gdLst>
              <a:gd name="textAreaLeft" fmla="*/ 57600 w 431640"/>
              <a:gd name="textAreaRight" fmla="*/ 374040 w 43164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255838"/>
                <a:lnTo>
                  <a:pt x="7018" y="19617"/>
                </a:lnTo>
                <a:lnTo>
                  <a:pt x="21600" y="17280"/>
                </a:lnTo>
                <a:lnTo>
                  <a:pt x="7018" y="10977"/>
                </a:lnTo>
                <a:lnTo>
                  <a:pt x="7018" y="13137"/>
                </a:lnTo>
                <a:arcTo wR="21600" hR="7560" stAng="9544162" swAng="89840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 rot="19356000">
            <a:off x="2556000" y="4462560"/>
            <a:ext cx="1528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M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6372360" y="4003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D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 flipH="1">
            <a:off x="6156360" y="4508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1"/>
          <p:cNvGrpSpPr/>
          <p:nvPr/>
        </p:nvGrpSpPr>
        <p:grpSpPr>
          <a:xfrm>
            <a:off x="2414520" y="5662440"/>
            <a:ext cx="5616720" cy="645840"/>
            <a:chOff x="2414520" y="5662440"/>
            <a:chExt cx="5616720" cy="645840"/>
          </a:xfrm>
        </p:grpSpPr>
        <p:sp>
          <p:nvSpPr>
            <p:cNvPr id="223" name="Line 22"/>
            <p:cNvSpPr/>
            <p:nvPr/>
          </p:nvSpPr>
          <p:spPr>
            <a:xfrm flipH="1">
              <a:off x="2414520" y="6308280"/>
              <a:ext cx="56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8031240" y="5662440"/>
              <a:ext cx="0" cy="64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4"/>
          <p:cNvSpPr/>
          <p:nvPr/>
        </p:nvSpPr>
        <p:spPr>
          <a:xfrm>
            <a:off x="4862520" y="587700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DH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079960" y="6381720"/>
            <a:ext cx="107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G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3492360" y="6381720"/>
            <a:ext cx="9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SS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 rot="10800000">
            <a:off x="4286160" y="6308640"/>
            <a:ext cx="720720" cy="216000"/>
          </a:xfrm>
          <a:custGeom>
            <a:avLst/>
            <a:gdLst>
              <a:gd name="textAreaLeft" fmla="*/ 126000 w 720720"/>
              <a:gd name="textAreaRight" fmla="*/ 522720 w 720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443640" y="5157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A  +  DH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>
                  <a:alpha val="81176"/>
                </a:srgbClr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SOENZIMAS DE A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76280"/>
            <a:ext cx="3851280" cy="4105440"/>
          </a:xfrm>
          <a:prstGeom prst="rect">
            <a:avLst/>
          </a:prstGeom>
          <a:solidFill>
            <a:srgbClr val="f9fee6"/>
          </a:solidFill>
          <a:ln w="9360">
            <a:solidFill>
              <a:srgbClr val="0a7442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oma (s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lacoides (t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rocuerpos (m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tosol (c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tocondria (mit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oroplastos (chl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572000" y="1413000"/>
            <a:ext cx="3960720" cy="70380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N ALTA ESPECIFICIDAD POR EL ACIDO ASCORB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572000" y="2637000"/>
            <a:ext cx="4572000" cy="13341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Cianuro, azida, reactivo con grupos tioles (p-cloromercuribenzo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inhibidores suicidas: hidroxilamina, p-aminofenol e hidroxiu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284720" y="4221000"/>
            <a:ext cx="4859280" cy="3988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n sensibles al estrés fotooxidativ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24000" y="5589720"/>
            <a:ext cx="7488000" cy="3988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ulación de actividad, síntesis y post-transcrip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icture 2"/>
          <p:cNvSpPr/>
          <p:nvPr/>
        </p:nvSpPr>
        <p:spPr>
          <a:xfrm>
            <a:off x="1260360" y="189000"/>
            <a:ext cx="648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658800"/>
              </a:gs>
              <a:gs pos="50000">
                <a:srgbClr val="a7e200"/>
              </a:gs>
              <a:gs pos="100000">
                <a:srgbClr val="658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5800"/>
                </a:solidFill>
                <a:latin typeface="Arial"/>
              </a:rPr>
              <a:t>Superóxido dismut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3240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metaloenzimas que eliminan los radicales superóxidos (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71640" y="3429000"/>
            <a:ext cx="1871640" cy="459720"/>
          </a:xfrm>
          <a:prstGeom prst="rect">
            <a:avLst/>
          </a:prstGeom>
          <a:solidFill>
            <a:srgbClr val="f2fdcb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3203640" y="3645000"/>
            <a:ext cx="1655640" cy="0"/>
          </a:xfrm>
          <a:prstGeom prst="line">
            <a:avLst/>
          </a:prstGeom>
          <a:ln w="38160">
            <a:solidFill>
              <a:srgbClr val="f2fd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5003640" y="2781360"/>
            <a:ext cx="30974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CAL SUPERO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692360" y="4653000"/>
            <a:ext cx="5616360" cy="510120"/>
          </a:xfrm>
          <a:prstGeom prst="rect">
            <a:avLst/>
          </a:prstGeom>
          <a:solidFill>
            <a:srgbClr val="f2fdcb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4043520" y="4941720"/>
            <a:ext cx="9144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9280" y="5548320"/>
            <a:ext cx="8642520" cy="11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-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z-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z-Cu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+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 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nz-Cu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+ 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3995640" y="573408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4097160" y="630864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gradFill rotWithShape="0">
            <a:gsLst>
              <a:gs pos="0">
                <a:srgbClr val="a7e200"/>
              </a:gs>
              <a:gs pos="50000">
                <a:srgbClr val="f2fdcb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SOENZIMAS DE LA S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4249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:   FeSO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I:   MnSO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tocondrias y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xi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II:  Cu-Zn SOD Cloroplastos, citosol y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acio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7020000" y="1773360"/>
            <a:ext cx="1297080" cy="718920"/>
          </a:xfrm>
          <a:prstGeom prst="ellipse">
            <a:avLst/>
          </a:prstGeom>
          <a:solidFill>
            <a:srgbClr val="f2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 - ) 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826920" y="234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dímero /tetrá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2692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dímero /tetrá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684360" y="6025320"/>
            <a:ext cx="7812000" cy="642600"/>
          </a:xfrm>
          <a:prstGeom prst="rect">
            <a:avLst/>
          </a:prstGeom>
          <a:noFill/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os genes SOD se regulan diferencialmente a través del desarrollo y en respuesta a varias condiciones de est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6836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dímero /tetrá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gradFill rotWithShape="0">
            <a:gsLst>
              <a:gs pos="0">
                <a:srgbClr val="7aa500"/>
              </a:gs>
              <a:gs pos="50000">
                <a:srgbClr val="a7e200"/>
              </a:gs>
              <a:gs pos="100000">
                <a:srgbClr val="7aa5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005800"/>
                </a:solidFill>
                <a:latin typeface="Arial"/>
              </a:rPr>
              <a:t>Catala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5920" y="1384200"/>
            <a:ext cx="822960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hemo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trámero con cuatro subunidades idént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ncuentran en peroxisomas y glioxiso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quieren de un sustrato redu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1042920" y="3933720"/>
            <a:ext cx="5400720" cy="440640"/>
            <a:chOff x="1042920" y="3933720"/>
            <a:chExt cx="5400720" cy="440640"/>
          </a:xfrm>
        </p:grpSpPr>
        <p:sp>
          <p:nvSpPr>
            <p:cNvPr id="257" name="Text Box 5"/>
            <p:cNvSpPr/>
            <p:nvPr/>
          </p:nvSpPr>
          <p:spPr>
            <a:xfrm>
              <a:off x="1042920" y="3933720"/>
              <a:ext cx="5400720" cy="440640"/>
            </a:xfrm>
            <a:prstGeom prst="rect">
              <a:avLst/>
            </a:prstGeom>
            <a:gradFill rotWithShape="0">
              <a:gsLst>
                <a:gs pos="0">
                  <a:srgbClr val="9ea192"/>
                </a:gs>
                <a:gs pos="50000">
                  <a:srgbClr val="f9fee6"/>
                </a:gs>
                <a:gs pos="100000">
                  <a:srgbClr val="9ea192"/>
                </a:gs>
              </a:gsLst>
              <a:lin ang="5400000"/>
            </a:gradFill>
            <a:ln w="9360">
              <a:solidFill>
                <a:srgbClr val="0a74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   +  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2484360" y="4149720"/>
              <a:ext cx="2087640" cy="0"/>
            </a:xfrm>
            <a:prstGeom prst="line">
              <a:avLst/>
            </a:prstGeom>
            <a:ln w="38160">
              <a:solidFill>
                <a:srgbClr val="0a744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7"/>
          <p:cNvGrpSpPr/>
          <p:nvPr/>
        </p:nvGrpSpPr>
        <p:grpSpPr>
          <a:xfrm>
            <a:off x="826920" y="4797360"/>
            <a:ext cx="7274160" cy="1266120"/>
            <a:chOff x="826920" y="4797360"/>
            <a:chExt cx="7274160" cy="1266120"/>
          </a:xfrm>
        </p:grpSpPr>
        <p:sp>
          <p:nvSpPr>
            <p:cNvPr id="260" name="Text Box 8"/>
            <p:cNvSpPr/>
            <p:nvPr/>
          </p:nvSpPr>
          <p:spPr>
            <a:xfrm>
              <a:off x="826920" y="4797360"/>
              <a:ext cx="7274160" cy="1266120"/>
            </a:xfrm>
            <a:prstGeom prst="rect">
              <a:avLst/>
            </a:prstGeom>
            <a:gradFill rotWithShape="0">
              <a:gsLst>
                <a:gs pos="0">
                  <a:srgbClr val="92997b"/>
                </a:gs>
                <a:gs pos="50000">
                  <a:srgbClr val="f2fdcb"/>
                </a:gs>
                <a:gs pos="100000">
                  <a:srgbClr val="9299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+   Fe (III)-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   +   O=Fe(IV)-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+ O=Fe(IV)-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   +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+    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e (III)-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3203640" y="508464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3348000" y="58053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37200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324000" y="501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ooper Black"/>
              </a:rPr>
              <a:t>La principal fuente de origen de los radicales libres es la respiración, ya que entre un 1 a 3% del oxígeno consumido se transforma en radicales li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aa500"/>
              </a:gs>
              <a:gs pos="50000">
                <a:srgbClr val="a7e200"/>
              </a:gs>
              <a:gs pos="100000">
                <a:srgbClr val="7aa500"/>
              </a:gs>
            </a:gsLst>
            <a:lin ang="5400000"/>
          </a:gradFill>
          <a:ln w="9360">
            <a:solidFill>
              <a:srgbClr val="05e16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PEL BIFUNCIONAL DE LA CATA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mina el peróxido de hidróge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peróxidos a partir de una molécula orgá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4"/>
          <p:cNvSpPr/>
          <p:nvPr/>
        </p:nvSpPr>
        <p:spPr>
          <a:xfrm>
            <a:off x="5435640" y="2276640"/>
            <a:ext cx="2449440" cy="93636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m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5578560" y="4869000"/>
            <a:ext cx="2449440" cy="93636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70755e"/>
              </a:gs>
              <a:gs pos="100000">
                <a:srgbClr val="f2fdc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IFIC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0c8a1"/>
              </a:gs>
              <a:gs pos="100000">
                <a:srgbClr val="f2fdcb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ubgrupo 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talas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dadera ó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ubgrupo I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talasa-peroxidas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eucariotas de hong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ubgrupo II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talas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no hemínica, 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06280" y="274680"/>
            <a:ext cx="8686800" cy="85068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ON DE LA ACTIVIDAD DE CATA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cido salicílico o sustancias similares regulan la actividad de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87280" y="4451400"/>
            <a:ext cx="302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s cercanos a celulas necr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39640" y="3213000"/>
            <a:ext cx="23749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s s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3564000" y="3429000"/>
            <a:ext cx="1294920" cy="510120"/>
            <a:chOff x="3564000" y="3429000"/>
            <a:chExt cx="1294920" cy="510120"/>
          </a:xfrm>
        </p:grpSpPr>
        <p:sp>
          <p:nvSpPr>
            <p:cNvPr id="274" name="Text Box 7"/>
            <p:cNvSpPr/>
            <p:nvPr/>
          </p:nvSpPr>
          <p:spPr>
            <a:xfrm>
              <a:off x="3706560" y="3429000"/>
              <a:ext cx="1152360" cy="510120"/>
            </a:xfrm>
            <a:prstGeom prst="rect">
              <a:avLst/>
            </a:prstGeom>
            <a:solidFill>
              <a:srgbClr val="f9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>
              <a:off x="3564000" y="342900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9"/>
          <p:cNvGrpSpPr/>
          <p:nvPr/>
        </p:nvGrpSpPr>
        <p:grpSpPr>
          <a:xfrm>
            <a:off x="3851280" y="4738680"/>
            <a:ext cx="1224000" cy="510120"/>
            <a:chOff x="3851280" y="4738680"/>
            <a:chExt cx="1224000" cy="510120"/>
          </a:xfrm>
        </p:grpSpPr>
        <p:sp>
          <p:nvSpPr>
            <p:cNvPr id="277" name="Text Box 10"/>
            <p:cNvSpPr/>
            <p:nvPr/>
          </p:nvSpPr>
          <p:spPr>
            <a:xfrm>
              <a:off x="3922920" y="4738680"/>
              <a:ext cx="1152360" cy="510120"/>
            </a:xfrm>
            <a:prstGeom prst="rect">
              <a:avLst/>
            </a:prstGeom>
            <a:solidFill>
              <a:srgbClr val="f9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3851280" y="4738680"/>
              <a:ext cx="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6588000" y="3789360"/>
            <a:ext cx="1871640" cy="38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5580000" y="3429000"/>
            <a:ext cx="719280" cy="576360"/>
          </a:xfrm>
          <a:prstGeom prst="ellipse">
            <a:avLst/>
          </a:prstGeom>
          <a:gradFill rotWithShape="0">
            <a:gsLst>
              <a:gs pos="0">
                <a:srgbClr val="a7e200"/>
              </a:gs>
              <a:gs pos="100000">
                <a:srgbClr val="f2fd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4"/>
          <p:cNvGrpSpPr/>
          <p:nvPr/>
        </p:nvGrpSpPr>
        <p:grpSpPr>
          <a:xfrm>
            <a:off x="7093080" y="3176640"/>
            <a:ext cx="720720" cy="503280"/>
            <a:chOff x="7093080" y="3176640"/>
            <a:chExt cx="720720" cy="503280"/>
          </a:xfrm>
        </p:grpSpPr>
        <p:sp>
          <p:nvSpPr>
            <p:cNvPr id="282" name="Oval 15"/>
            <p:cNvSpPr/>
            <p:nvPr/>
          </p:nvSpPr>
          <p:spPr>
            <a:xfrm>
              <a:off x="7093080" y="3176640"/>
              <a:ext cx="720720" cy="503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7381800" y="3462480"/>
              <a:ext cx="216000" cy="0"/>
            </a:xfrm>
            <a:prstGeom prst="line">
              <a:avLst/>
            </a:prstGeom>
            <a:ln w="38160">
              <a:solidFill>
                <a:srgbClr val="ea7a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Oval 17"/>
          <p:cNvSpPr/>
          <p:nvPr/>
        </p:nvSpPr>
        <p:spPr>
          <a:xfrm>
            <a:off x="5435640" y="4724280"/>
            <a:ext cx="718920" cy="576360"/>
          </a:xfrm>
          <a:prstGeom prst="ellipse">
            <a:avLst/>
          </a:prstGeom>
          <a:gradFill rotWithShape="0">
            <a:gsLst>
              <a:gs pos="0">
                <a:srgbClr val="a7e200"/>
              </a:gs>
              <a:gs pos="100000">
                <a:srgbClr val="f2fd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6588000" y="4797360"/>
            <a:ext cx="1871640" cy="38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onor de e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042920" y="595008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tabaco el óxido nítrico inhibe la 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 DE LA CATALASA EN EL EST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222732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Ca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Ca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Cat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500720" y="2133720"/>
            <a:ext cx="4319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stema fotorespirato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rés oxid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oxidación de los ácidos grasos en los glioxiso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700360" y="23004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2700360" y="316404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2700360" y="416088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2400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icotiana plumbaginifol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C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95280" y="508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tas de taba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826920" y="5445000"/>
            <a:ext cx="14414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372360" y="573408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siones necró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s hoj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4067280" y="5157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276720" y="6308640"/>
            <a:ext cx="1871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/>
          <p:cNvSpPr/>
          <p:nvPr/>
        </p:nvSpPr>
        <p:spPr>
          <a:xfrm>
            <a:off x="5292720" y="580536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LUTATION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24000" y="1628640"/>
            <a:ext cx="7667640" cy="91692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-S-S-G   +   NADPH   +   H+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 GSH   +   NADP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lutatió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luta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xidad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3492360" y="2133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6"/>
          <p:cNvSpPr/>
          <p:nvPr/>
        </p:nvSpPr>
        <p:spPr>
          <a:xfrm>
            <a:off x="2475000" y="2278080"/>
            <a:ext cx="3105000" cy="1295280"/>
          </a:xfrm>
          <a:prstGeom prst="ellipse">
            <a:avLst/>
          </a:prstGeom>
          <a:solidFill>
            <a:srgbClr val="f9fe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4614"/>
                </a:solidFill>
                <a:latin typeface="Arial"/>
              </a:rPr>
              <a:t>FLAVOPROTEÍ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4614"/>
                </a:solidFill>
                <a:latin typeface="Arial"/>
              </a:rPr>
              <a:t>HOMODIMÉ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"/>
          <p:cNvPicPr/>
          <p:nvPr/>
        </p:nvPicPr>
        <p:blipFill>
          <a:blip r:embed="rId1"/>
          <a:stretch/>
        </p:blipFill>
        <p:spPr>
          <a:xfrm>
            <a:off x="363600" y="4206960"/>
            <a:ext cx="2805120" cy="1450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"/>
          <p:cNvPicPr/>
          <p:nvPr/>
        </p:nvPicPr>
        <p:blipFill>
          <a:blip r:embed="rId2"/>
          <a:stretch/>
        </p:blipFill>
        <p:spPr>
          <a:xfrm>
            <a:off x="3597120" y="4776840"/>
            <a:ext cx="811440" cy="311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"/>
          <p:cNvPicPr/>
          <p:nvPr/>
        </p:nvPicPr>
        <p:blipFill>
          <a:blip r:embed="rId3"/>
          <a:stretch/>
        </p:blipFill>
        <p:spPr>
          <a:xfrm>
            <a:off x="4932360" y="4410000"/>
            <a:ext cx="33037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95280" y="1484280"/>
            <a:ext cx="8748720" cy="537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92997b"/>
              </a:gs>
              <a:gs pos="50000">
                <a:srgbClr val="f2fdcb"/>
              </a:gs>
              <a:gs pos="100000">
                <a:srgbClr val="9299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SOENZIMAS DE 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LUTATION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8720" y="2406600"/>
            <a:ext cx="2089080" cy="3682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28720" y="3414600"/>
            <a:ext cx="1944720" cy="3682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28720" y="4437000"/>
            <a:ext cx="2089080" cy="3682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979640" y="5300640"/>
            <a:ext cx="637380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Respuestas a señales ambientale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419640" y="3429000"/>
            <a:ext cx="5329080" cy="8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DUCTO DE DIFERENTES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771640" y="2421000"/>
            <a:ext cx="287640" cy="2808360"/>
          </a:xfrm>
          <a:custGeom>
            <a:avLst/>
            <a:gdLst>
              <a:gd name="textAreaLeft" fmla="*/ 0 w 287640"/>
              <a:gd name="textAreaRight" fmla="*/ 103680 w 28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7e200"/>
              </a:gs>
              <a:gs pos="50000">
                <a:srgbClr val="f9fee6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Glutatión peroxidas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684360" y="2060640"/>
            <a:ext cx="7200720" cy="863640"/>
            <a:chOff x="684360" y="2060640"/>
            <a:chExt cx="7200720" cy="863640"/>
          </a:xfrm>
        </p:grpSpPr>
        <p:sp>
          <p:nvSpPr>
            <p:cNvPr id="317" name="Rectangle 4"/>
            <p:cNvSpPr/>
            <p:nvPr/>
          </p:nvSpPr>
          <p:spPr>
            <a:xfrm>
              <a:off x="684360" y="2060640"/>
              <a:ext cx="7200720" cy="863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5"/>
            <p:cNvGrpSpPr/>
            <p:nvPr/>
          </p:nvGrpSpPr>
          <p:grpSpPr>
            <a:xfrm>
              <a:off x="900000" y="2276640"/>
              <a:ext cx="6696360" cy="440640"/>
              <a:chOff x="900000" y="2276640"/>
              <a:chExt cx="6696360" cy="440640"/>
            </a:xfrm>
          </p:grpSpPr>
          <p:sp>
            <p:nvSpPr>
              <p:cNvPr id="319" name="Text Box 6"/>
              <p:cNvSpPr/>
              <p:nvPr/>
            </p:nvSpPr>
            <p:spPr>
              <a:xfrm>
                <a:off x="900000" y="2276640"/>
                <a:ext cx="66963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2  GSH   +   R-OOH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            GSSG   +   H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O   +   RO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7"/>
              <p:cNvSpPr/>
              <p:nvPr/>
            </p:nvSpPr>
            <p:spPr>
              <a:xfrm>
                <a:off x="3564000" y="249228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8"/>
          <p:cNvSpPr/>
          <p:nvPr/>
        </p:nvSpPr>
        <p:spPr>
          <a:xfrm>
            <a:off x="503280" y="3860640"/>
            <a:ext cx="7993080" cy="21283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s una enzima constitu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ducida en respuesta al estr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mas importante en la remoción de peróx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lípidos y alqu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7e200"/>
              </a:gs>
              <a:gs pos="50000">
                <a:srgbClr val="f9fee6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CANISMOS DE DEFENSA NO ENZIMA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CIDO ASCORB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GL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AROTEN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TOQUELAT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IAMIN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AVON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l Acido ascórb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760" y="1628280"/>
            <a:ext cx="8697960" cy="49690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ioxidante (citoplasma, cloroplastos, vacuo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uy reactivo (recolector de radicales libres: 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biliza el radical hidrox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ita la peroxidación lip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enera la 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ortante para el crecimiento, diferenciación celular y el metabo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ENTES DE ACIDO ASCORB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rosella, pimiento verde, kiwi, limón, coliflor, naranja, tomate y m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268360" y="5033880"/>
            <a:ext cx="1727280" cy="7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EC 1.3.2.3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95280" y="1931400"/>
            <a:ext cx="7632720" cy="5806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-GLUCOS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-MANOS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-GALACT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9360">
            <a:solidFill>
              <a:srgbClr val="05e16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INTESIS DE ACIDO ASCORB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S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292720" y="5157720"/>
            <a:ext cx="2664000" cy="457200"/>
          </a:xfrm>
          <a:prstGeom prst="rect">
            <a:avLst/>
          </a:prstGeom>
          <a:solidFill>
            <a:srgbClr val="f2fdcb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ASCORB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2050920" y="2133720"/>
            <a:ext cx="738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4859280" y="2133720"/>
            <a:ext cx="738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3276720" y="4221000"/>
            <a:ext cx="31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-galacto-1,4 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74680" y="2626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695520" y="3137760"/>
            <a:ext cx="6433560" cy="580680"/>
          </a:xfrm>
          <a:prstGeom prst="rect">
            <a:avLst/>
          </a:prstGeom>
          <a:solidFill>
            <a:srgbClr val="f2fdcb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.GALACTOS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-GALACTO-1,4-LACT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2771640" y="3429000"/>
            <a:ext cx="1152720" cy="20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>
            <a:off x="6227640" y="3860640"/>
            <a:ext cx="289080" cy="1152720"/>
          </a:xfrm>
          <a:prstGeom prst="downArrow">
            <a:avLst>
              <a:gd name="adj1" fmla="val 50000"/>
              <a:gd name="adj2" fmla="val 99689"/>
            </a:avLst>
          </a:prstGeom>
          <a:solidFill>
            <a:srgbClr val="a7e200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216000" y="6093000"/>
            <a:ext cx="8604000" cy="5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portador específico (Km AA 90 uM y Km DHA = 20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3564000" y="4724280"/>
            <a:ext cx="21600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 CuadroTexto"/>
          <p:cNvSpPr/>
          <p:nvPr/>
        </p:nvSpPr>
        <p:spPr>
          <a:xfrm>
            <a:off x="6530040" y="4145040"/>
            <a:ext cx="19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2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0f6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Determinación VIT C (Acido Ascórb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2 Rectángulo"/>
          <p:cNvSpPr/>
          <p:nvPr/>
        </p:nvSpPr>
        <p:spPr>
          <a:xfrm>
            <a:off x="395280" y="1989000"/>
            <a:ext cx="8497800" cy="338580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)Por la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oxidación de acido ascórbico con el reactivo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2,6-diclorofenol indofe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) Acido ascórbico: Formación del complejo entre  Fe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y bipiridil después de una reducción de Fe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3+;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25 n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Acido Ascórbico total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: Reducción de ascorbato oxid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00 n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rc 2"/>
          <p:cNvSpPr/>
          <p:nvPr/>
        </p:nvSpPr>
        <p:spPr>
          <a:xfrm flipH="1" rot="9389400">
            <a:off x="5182560" y="1288800"/>
            <a:ext cx="2854080" cy="4105080"/>
          </a:xfrm>
          <a:custGeom>
            <a:avLst/>
            <a:gdLst>
              <a:gd name="textAreaLeft" fmla="*/ 360 w 2854080"/>
              <a:gd name="textAreaRight" fmla="*/ 2854800 w 2854080"/>
              <a:gd name="textAreaTop" fmla="*/ 0 h 4105080"/>
              <a:gd name="textAreaBottom" fmla="*/ 4105440 h 4105080"/>
            </a:gdLst>
            <a:ahLst/>
            <a:rect l="textAreaLeft" t="textAreaTop" r="textAreaRight" b="textAreaBottom"/>
            <a:pathLst>
              <a:path fill="none" w="21600" h="28931">
                <a:moveTo>
                  <a:pt x="2262" y="-1"/>
                </a:moveTo>
                <a:cubicBezTo>
                  <a:pt x="13254" y="1157"/>
                  <a:pt x="21600" y="10427"/>
                  <a:pt x="21600" y="21481"/>
                </a:cubicBezTo>
                <a:cubicBezTo>
                  <a:pt x="21600" y="24023"/>
                  <a:pt x="21151" y="26545"/>
                  <a:pt x="20274" y="28931"/>
                </a:cubicBezTo>
              </a:path>
              <a:path stroke="0" w="21600" h="28931">
                <a:moveTo>
                  <a:pt x="2262" y="-1"/>
                </a:moveTo>
                <a:cubicBezTo>
                  <a:pt x="13254" y="1157"/>
                  <a:pt x="21600" y="10427"/>
                  <a:pt x="21600" y="21481"/>
                </a:cubicBezTo>
                <a:cubicBezTo>
                  <a:pt x="21600" y="24023"/>
                  <a:pt x="21151" y="26545"/>
                  <a:pt x="20274" y="28931"/>
                </a:cubicBezTo>
                <a:lnTo>
                  <a:pt x="0" y="21481"/>
                </a:lnTo>
                <a:lnTo>
                  <a:pt x="2262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3"/>
          <p:cNvSpPr/>
          <p:nvPr/>
        </p:nvSpPr>
        <p:spPr>
          <a:xfrm flipH="1" rot="19950600">
            <a:off x="1270800" y="1222200"/>
            <a:ext cx="2657520" cy="4350240"/>
          </a:xfrm>
          <a:custGeom>
            <a:avLst/>
            <a:gdLst>
              <a:gd name="textAreaLeft" fmla="*/ 0 w 2657520"/>
              <a:gd name="textAreaRight" fmla="*/ 2657520 w 2657520"/>
              <a:gd name="textAreaTop" fmla="*/ 0 h 4350240"/>
              <a:gd name="textAreaBottom" fmla="*/ 4350600 h 4350240"/>
            </a:gdLst>
            <a:ahLst/>
            <a:rect l="textAreaLeft" t="textAreaTop" r="textAreaRight" b="textAreaBottom"/>
            <a:pathLst>
              <a:path fill="none" w="21600" h="290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42"/>
                  <a:pt x="21151" y="26664"/>
                  <a:pt x="20274" y="29050"/>
                </a:cubicBezTo>
              </a:path>
              <a:path stroke="0" w="21600" h="290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42"/>
                  <a:pt x="21151" y="26664"/>
                  <a:pt x="20274" y="2905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987640" y="549360"/>
            <a:ext cx="378288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IDO ASCORB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24000" y="1557360"/>
            <a:ext cx="3095640" cy="1326240"/>
          </a:xfrm>
          <a:prstGeom prst="rect">
            <a:avLst/>
          </a:prstGeom>
          <a:solidFill>
            <a:srgbClr val="e8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peróx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cal tocofer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4643280" y="1628640"/>
            <a:ext cx="2160720" cy="1152360"/>
            <a:chOff x="4643280" y="1628640"/>
            <a:chExt cx="2160720" cy="1152360"/>
          </a:xfrm>
        </p:grpSpPr>
        <p:sp>
          <p:nvSpPr>
            <p:cNvPr id="347" name="Oval 7"/>
            <p:cNvSpPr/>
            <p:nvPr/>
          </p:nvSpPr>
          <p:spPr>
            <a:xfrm>
              <a:off x="4643280" y="1628640"/>
              <a:ext cx="2160720" cy="1152360"/>
            </a:xfrm>
            <a:prstGeom prst="ellipse">
              <a:avLst/>
            </a:prstGeom>
            <a:solidFill>
              <a:srgbClr val="bce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"/>
            <p:cNvSpPr/>
            <p:nvPr/>
          </p:nvSpPr>
          <p:spPr>
            <a:xfrm>
              <a:off x="4932360" y="1917360"/>
              <a:ext cx="1584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9"/>
          <p:cNvSpPr/>
          <p:nvPr/>
        </p:nvSpPr>
        <p:spPr>
          <a:xfrm>
            <a:off x="2340000" y="3429000"/>
            <a:ext cx="44625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NODEHIDROASCORB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6227640" y="4149720"/>
            <a:ext cx="2160720" cy="1152360"/>
            <a:chOff x="6227640" y="4149720"/>
            <a:chExt cx="2160720" cy="1152360"/>
          </a:xfrm>
        </p:grpSpPr>
        <p:sp>
          <p:nvSpPr>
            <p:cNvPr id="351" name="Oval 11"/>
            <p:cNvSpPr/>
            <p:nvPr/>
          </p:nvSpPr>
          <p:spPr>
            <a:xfrm>
              <a:off x="6227640" y="4149720"/>
              <a:ext cx="2160720" cy="1152360"/>
            </a:xfrm>
            <a:prstGeom prst="ellipse">
              <a:avLst/>
            </a:prstGeom>
            <a:solidFill>
              <a:srgbClr val="bce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588000" y="4509720"/>
              <a:ext cx="1511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7885080" y="3716280"/>
            <a:ext cx="1224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S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7740720" y="5373720"/>
            <a:ext cx="1297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G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987640" y="5445000"/>
            <a:ext cx="316692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HIDROASCORB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5148360" y="6237360"/>
            <a:ext cx="2592360" cy="398880"/>
          </a:xfrm>
          <a:prstGeom prst="rect">
            <a:avLst/>
          </a:prstGeom>
          <a:noFill/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rtrato  +  oxa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3995640" y="105264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4932360" y="105264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4572000" y="4005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0"/>
          <p:cNvSpPr/>
          <p:nvPr/>
        </p:nvSpPr>
        <p:spPr>
          <a:xfrm>
            <a:off x="7308720" y="4076640"/>
            <a:ext cx="503280" cy="151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95" h="952">
                <a:moveTo>
                  <a:pt x="295" y="952"/>
                </a:moveTo>
                <a:cubicBezTo>
                  <a:pt x="249" y="926"/>
                  <a:pt x="204" y="900"/>
                  <a:pt x="159" y="862"/>
                </a:cubicBezTo>
                <a:cubicBezTo>
                  <a:pt x="114" y="824"/>
                  <a:pt x="46" y="802"/>
                  <a:pt x="23" y="726"/>
                </a:cubicBezTo>
                <a:cubicBezTo>
                  <a:pt x="0" y="650"/>
                  <a:pt x="0" y="499"/>
                  <a:pt x="23" y="408"/>
                </a:cubicBezTo>
                <a:cubicBezTo>
                  <a:pt x="46" y="317"/>
                  <a:pt x="114" y="249"/>
                  <a:pt x="159" y="181"/>
                </a:cubicBezTo>
                <a:cubicBezTo>
                  <a:pt x="204" y="113"/>
                  <a:pt x="272" y="30"/>
                  <a:pt x="295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4932360" y="5877000"/>
            <a:ext cx="28728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L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1187280" y="1484280"/>
            <a:ext cx="6840720" cy="3477240"/>
            <a:chOff x="1187280" y="1484280"/>
            <a:chExt cx="6840720" cy="3477240"/>
          </a:xfrm>
        </p:grpSpPr>
        <p:grpSp>
          <p:nvGrpSpPr>
            <p:cNvPr id="364" name="Group 4"/>
            <p:cNvGrpSpPr/>
            <p:nvPr/>
          </p:nvGrpSpPr>
          <p:grpSpPr>
            <a:xfrm>
              <a:off x="1187280" y="1484280"/>
              <a:ext cx="6840720" cy="3477240"/>
              <a:chOff x="1187280" y="1484280"/>
              <a:chExt cx="6840720" cy="3477240"/>
            </a:xfrm>
          </p:grpSpPr>
          <p:grpSp>
            <p:nvGrpSpPr>
              <p:cNvPr id="365" name="Group 5"/>
              <p:cNvGrpSpPr/>
              <p:nvPr/>
            </p:nvGrpSpPr>
            <p:grpSpPr>
              <a:xfrm>
                <a:off x="1187280" y="1484280"/>
                <a:ext cx="6840720" cy="3477240"/>
                <a:chOff x="1187280" y="1484280"/>
                <a:chExt cx="6840720" cy="3477240"/>
              </a:xfrm>
            </p:grpSpPr>
            <p:grpSp>
              <p:nvGrpSpPr>
                <p:cNvPr id="366" name="Group 6"/>
                <p:cNvGrpSpPr/>
                <p:nvPr/>
              </p:nvGrpSpPr>
              <p:grpSpPr>
                <a:xfrm>
                  <a:off x="1187280" y="1484280"/>
                  <a:ext cx="6840720" cy="3477240"/>
                  <a:chOff x="1187280" y="1484280"/>
                  <a:chExt cx="6840720" cy="3477240"/>
                </a:xfrm>
              </p:grpSpPr>
              <p:sp>
                <p:nvSpPr>
                  <p:cNvPr id="367" name="Text Box 7"/>
                  <p:cNvSpPr/>
                  <p:nvPr/>
                </p:nvSpPr>
                <p:spPr>
                  <a:xfrm>
                    <a:off x="1187280" y="1484280"/>
                    <a:ext cx="6840720" cy="3477240"/>
                  </a:xfrm>
                  <a:prstGeom prst="rect">
                    <a:avLst/>
                  </a:prstGeom>
                  <a:solidFill>
                    <a:srgbClr val="f2fd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    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OOC-CH-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C-NH-CH-C-NH-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CO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SH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8"/>
                  <p:cNvSpPr/>
                  <p:nvPr/>
                </p:nvSpPr>
                <p:spPr>
                  <a:xfrm>
                    <a:off x="1690560" y="3213000"/>
                    <a:ext cx="2448000" cy="5749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5e1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</a:t>
                    </a: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-Glutama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Oval 9"/>
                  <p:cNvSpPr/>
                  <p:nvPr/>
                </p:nvSpPr>
                <p:spPr>
                  <a:xfrm>
                    <a:off x="5796000" y="3139920"/>
                    <a:ext cx="208764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5e1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Glicin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Oval 10"/>
                  <p:cNvSpPr/>
                  <p:nvPr/>
                </p:nvSpPr>
                <p:spPr>
                  <a:xfrm>
                    <a:off x="4356000" y="4292640"/>
                    <a:ext cx="208764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5e1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isteín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 Box 11"/>
                  <p:cNvSpPr/>
                  <p:nvPr/>
                </p:nvSpPr>
                <p:spPr>
                  <a:xfrm>
                    <a:off x="2771640" y="1484280"/>
                    <a:ext cx="2952720" cy="368280"/>
                  </a:xfrm>
                  <a:prstGeom prst="rect">
                    <a:avLst/>
                  </a:prstGeom>
                  <a:solidFill>
                    <a:srgbClr val="f2fd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LUTATION REDU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2" name="AutoShape 12"/>
                <p:cNvSpPr/>
                <p:nvPr/>
              </p:nvSpPr>
              <p:spPr>
                <a:xfrm rot="16200000">
                  <a:off x="2698560" y="1483920"/>
                  <a:ext cx="289080" cy="2879640"/>
                </a:xfrm>
                <a:custGeom>
                  <a:avLst/>
                  <a:gdLst>
                    <a:gd name="textAreaLeft" fmla="*/ 184680 w 289080"/>
                    <a:gd name="textAreaRight" fmla="*/ 289080 w 289080"/>
                    <a:gd name="textAreaTop" fmla="*/ 74880 h 2879640"/>
                    <a:gd name="textAreaBottom" fmla="*/ 2804760 h 287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13"/>
                <p:cNvSpPr/>
                <p:nvPr/>
              </p:nvSpPr>
              <p:spPr>
                <a:xfrm rot="16200000">
                  <a:off x="6587280" y="1987920"/>
                  <a:ext cx="289080" cy="1871640"/>
                </a:xfrm>
                <a:custGeom>
                  <a:avLst/>
                  <a:gdLst>
                    <a:gd name="textAreaLeft" fmla="*/ 184680 w 289080"/>
                    <a:gd name="textAreaRight" fmla="*/ 289080 w 289080"/>
                    <a:gd name="textAreaTop" fmla="*/ 48600 h 1871640"/>
                    <a:gd name="textAreaBottom" fmla="*/ 1823040 h 1871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14"/>
                <p:cNvSpPr/>
                <p:nvPr/>
              </p:nvSpPr>
              <p:spPr>
                <a:xfrm rot="16200000">
                  <a:off x="4894920" y="3392640"/>
                  <a:ext cx="360360" cy="1295280"/>
                </a:xfrm>
                <a:custGeom>
                  <a:avLst/>
                  <a:gdLst>
                    <a:gd name="textAreaLeft" fmla="*/ 230400 w 360360"/>
                    <a:gd name="textAreaRight" fmla="*/ 360720 w 36036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5"/>
                <p:cNvSpPr/>
                <p:nvPr/>
              </p:nvSpPr>
              <p:spPr>
                <a:xfrm>
                  <a:off x="4427640" y="2708280"/>
                  <a:ext cx="0" cy="11523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6"/>
                <p:cNvSpPr/>
                <p:nvPr/>
              </p:nvSpPr>
              <p:spPr>
                <a:xfrm>
                  <a:off x="5722920" y="2708280"/>
                  <a:ext cx="0" cy="11523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17"/>
              <p:cNvSpPr/>
              <p:nvPr/>
            </p:nvSpPr>
            <p:spPr>
              <a:xfrm>
                <a:off x="2050920" y="1628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2124000" y="210816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3990960" y="213372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5429160" y="2108160"/>
                <a:ext cx="58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Text Box 21"/>
            <p:cNvSpPr/>
            <p:nvPr/>
          </p:nvSpPr>
          <p:spPr>
            <a:xfrm>
              <a:off x="4859280" y="2563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4932360" y="30430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3"/>
          <p:cNvSpPr/>
          <p:nvPr/>
        </p:nvSpPr>
        <p:spPr>
          <a:xfrm>
            <a:off x="250920" y="4948200"/>
            <a:ext cx="2519280" cy="3682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TATION 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395280" y="5516640"/>
            <a:ext cx="1800360" cy="1016280"/>
            <a:chOff x="395280" y="5516640"/>
            <a:chExt cx="1800360" cy="1016280"/>
          </a:xfrm>
        </p:grpSpPr>
        <p:sp>
          <p:nvSpPr>
            <p:cNvPr id="385" name="Text Box 25"/>
            <p:cNvSpPr/>
            <p:nvPr/>
          </p:nvSpPr>
          <p:spPr>
            <a:xfrm>
              <a:off x="395280" y="5516640"/>
              <a:ext cx="1800360" cy="368280"/>
            </a:xfrm>
            <a:prstGeom prst="rect">
              <a:avLst/>
            </a:prstGeom>
            <a:solidFill>
              <a:srgbClr val="f2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-Cys-G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395280" y="6164640"/>
              <a:ext cx="1800360" cy="368280"/>
            </a:xfrm>
            <a:prstGeom prst="rect">
              <a:avLst/>
            </a:prstGeom>
            <a:solidFill>
              <a:srgbClr val="f2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-Cys-G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7"/>
            <p:cNvSpPr/>
            <p:nvPr/>
          </p:nvSpPr>
          <p:spPr>
            <a:xfrm>
              <a:off x="898560" y="580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28"/>
          <p:cNvSpPr/>
          <p:nvPr/>
        </p:nvSpPr>
        <p:spPr>
          <a:xfrm>
            <a:off x="3708360" y="5661000"/>
            <a:ext cx="4897440" cy="642600"/>
          </a:xfrm>
          <a:prstGeom prst="rect">
            <a:avLst/>
          </a:prstGeom>
          <a:solidFill>
            <a:srgbClr val="e8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GLUTATION ES EL MAYOR RESERVORIO DE AZUFRE NO PROTE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9fee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 DEL GL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tege las proteínas de la oxidación del grupo ti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oxificador por conjugación con algunos herbi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presente en la mayoría de los células y compartimentos subcelulares. Mayor nivel en cloropl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e el DHA a ascorb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recolector de radicales li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biliza las membranas (remueve peróxi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9fe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COFEROL (Vit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drofóbico  (unido a membr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ee un anillo benzoquinona y una cadena fit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cuestrante de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peróx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ita la propagación de las reacciones de per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íz tolerante al frío: &gt;&gt; tocoferoles y gluta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Ascorbato regenera 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539640" y="125280"/>
            <a:ext cx="7920000" cy="71244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O DE ACCION DE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"/>
          <p:cNvPicPr/>
          <p:nvPr/>
        </p:nvPicPr>
        <p:blipFill>
          <a:blip r:embed="rId1"/>
          <a:stretch/>
        </p:blipFill>
        <p:spPr>
          <a:xfrm>
            <a:off x="539640" y="830160"/>
            <a:ext cx="8064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9fee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OT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ia. de Isoprenoides y tetraterpenos (Carotenos y Xantófi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idos a membranas (Oxígeno singu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roplastos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stidios (tejidos fotosin. y no fotosinté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rofila Triplete: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rote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vita formación ´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singu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Zeaxanti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isipa la energía de la clorofila exc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3 Rectángulo"/>
          <p:cNvSpPr/>
          <p:nvPr/>
        </p:nvSpPr>
        <p:spPr>
          <a:xfrm>
            <a:off x="0" y="620640"/>
            <a:ext cx="914400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n término de sus propiedades antioxidantes, los carotenoides, pueden proteger los fotosistemas por 4 ví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reacción con productos de lipoperoxidación al terminar las reacciones en cad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el reclutamiento de oxígeno singulete y disipación de la energía como c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reacción con moléculas de clorofila triplete o excitadas para prevenir la formación de oxígeno singu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 Por la disipación de exceso de energía de excitación a              través del ciclo de las xantofi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72960" y="549360"/>
            <a:ext cx="85932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1 Rectángulo"/>
          <p:cNvSpPr/>
          <p:nvPr/>
        </p:nvSpPr>
        <p:spPr>
          <a:xfrm>
            <a:off x="-6480" y="31680"/>
            <a:ext cx="915048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I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pequeñas aminas alifáticas y se clasifican como diaminas y poliaminas propiamente di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moléculas básicas cargadas positivamente al pH fisiológ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unen a moléculas con cargas negativas, como por ejemplo ácidos nucleicos, fosfolípidos y varias proteí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poliaminas aparecen en las plantas de manera libre o conjugada a pequeñas molécu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án implicadas en la regulación de la senescencia y morfogénesis y quizás su principal función es responder a diferentes estreses en pla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oxidación de las diaminas o poliaminas por las diamino- y poliaminoxidasas respectivamente, producen altos niveles de 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que causan la muerte de la célula vegetal, o crean un halo que limita la entrada del hongo o virus y por otro lado ataca directamente al virus u hon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0"/>
          <p:cNvSpPr/>
          <p:nvPr/>
        </p:nvSpPr>
        <p:spPr>
          <a:xfrm>
            <a:off x="2195640" y="3645000"/>
            <a:ext cx="287280" cy="1296720"/>
          </a:xfrm>
          <a:prstGeom prst="upArrow">
            <a:avLst>
              <a:gd name="adj1" fmla="val 50000"/>
              <a:gd name="adj2" fmla="val 1128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S QUIMICAS DE LAS ESPECIES REACTIVAS DEL OXI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9640" y="2787480"/>
            <a:ext cx="3311640" cy="642600"/>
          </a:xfrm>
          <a:prstGeom prst="rect">
            <a:avLst/>
          </a:prstGeom>
          <a:solidFill>
            <a:srgbClr val="b5f1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CIES REACTIVAS DEL OXIGENO (E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4067280" y="2205000"/>
            <a:ext cx="4465440" cy="863280"/>
            <a:chOff x="4067280" y="2205000"/>
            <a:chExt cx="4465440" cy="863280"/>
          </a:xfrm>
        </p:grpSpPr>
        <p:sp>
          <p:nvSpPr>
            <p:cNvPr id="61" name="Line 6"/>
            <p:cNvSpPr/>
            <p:nvPr/>
          </p:nvSpPr>
          <p:spPr>
            <a:xfrm flipV="1">
              <a:off x="4067280" y="2636640"/>
              <a:ext cx="201744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6372360" y="2205000"/>
              <a:ext cx="216036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DICAL LI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3995640" y="3429000"/>
            <a:ext cx="4392720" cy="1231920"/>
            <a:chOff x="3995640" y="3429000"/>
            <a:chExt cx="4392720" cy="1231920"/>
          </a:xfrm>
        </p:grpSpPr>
        <p:sp>
          <p:nvSpPr>
            <p:cNvPr id="64" name="Line 7"/>
            <p:cNvSpPr/>
            <p:nvPr/>
          </p:nvSpPr>
          <p:spPr>
            <a:xfrm>
              <a:off x="3995640" y="3429000"/>
              <a:ext cx="136836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9"/>
            <p:cNvSpPr/>
            <p:nvPr/>
          </p:nvSpPr>
          <p:spPr>
            <a:xfrm>
              <a:off x="6227640" y="4292640"/>
              <a:ext cx="2160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O RAD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12"/>
          <p:cNvSpPr/>
          <p:nvPr/>
        </p:nvSpPr>
        <p:spPr>
          <a:xfrm>
            <a:off x="7451640" y="2637000"/>
            <a:ext cx="0" cy="5047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6372360" y="3141720"/>
            <a:ext cx="2087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par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7380360" y="4724280"/>
            <a:ext cx="0" cy="5050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6300720" y="5300640"/>
            <a:ext cx="2087640" cy="1008360"/>
            <a:chOff x="6300720" y="5300640"/>
            <a:chExt cx="2087640" cy="1008360"/>
          </a:xfrm>
        </p:grpSpPr>
        <p:sp>
          <p:nvSpPr>
            <p:cNvPr id="70" name="Oval 15"/>
            <p:cNvSpPr/>
            <p:nvPr/>
          </p:nvSpPr>
          <p:spPr>
            <a:xfrm>
              <a:off x="6300720" y="5373720"/>
              <a:ext cx="208764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apare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6948360" y="5300640"/>
              <a:ext cx="720720" cy="1008360"/>
            </a:xfrm>
            <a:prstGeom prst="rect">
              <a:avLst/>
            </a:prstGeom>
            <a:solidFill>
              <a:srgbClr val="b5f1fb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0" spc="-1" strike="noStrike">
                  <a:solidFill>
                    <a:srgbClr val="fb1525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Oval 18"/>
          <p:cNvSpPr/>
          <p:nvPr/>
        </p:nvSpPr>
        <p:spPr>
          <a:xfrm>
            <a:off x="1835280" y="5229360"/>
            <a:ext cx="93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324000" y="4005360"/>
            <a:ext cx="1726920" cy="703800"/>
          </a:xfrm>
          <a:prstGeom prst="rect">
            <a:avLst/>
          </a:prstGeom>
          <a:solidFill>
            <a:srgbClr val="d0f6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ducciones pa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2"/>
          <p:cNvSpPr/>
          <p:nvPr/>
        </p:nvSpPr>
        <p:spPr>
          <a:xfrm>
            <a:off x="4716360" y="249228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3"/>
          <p:cNvSpPr/>
          <p:nvPr/>
        </p:nvSpPr>
        <p:spPr>
          <a:xfrm>
            <a:off x="5292720" y="1413000"/>
            <a:ext cx="10796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4"/>
          <p:cNvSpPr/>
          <p:nvPr/>
        </p:nvSpPr>
        <p:spPr>
          <a:xfrm>
            <a:off x="3492360" y="378936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5"/>
          <p:cNvSpPr/>
          <p:nvPr/>
        </p:nvSpPr>
        <p:spPr>
          <a:xfrm>
            <a:off x="4859280" y="465300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Alicia\Power Point\Links\CUADRO.jpg"/>
          <p:cNvPicPr/>
          <p:nvPr/>
        </p:nvPicPr>
        <p:blipFill>
          <a:blip r:embed="rId1"/>
          <a:stretch/>
        </p:blipFill>
        <p:spPr>
          <a:xfrm>
            <a:off x="2057400" y="228600"/>
            <a:ext cx="51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749600" y="1413000"/>
            <a:ext cx="187164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237960" y="1413000"/>
            <a:ext cx="1511640" cy="67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1762200" y="3840120"/>
            <a:ext cx="13651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3821040" y="2828880"/>
            <a:ext cx="1457280" cy="6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6"/>
          <a:stretch/>
        </p:blipFill>
        <p:spPr>
          <a:xfrm>
            <a:off x="5556240" y="2949480"/>
            <a:ext cx="194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5:02:05Z</dcterms:created>
  <dc:creator>pc</dc:creator>
  <dc:description/>
  <dc:language>en-US</dc:language>
  <cp:lastModifiedBy>ethel</cp:lastModifiedBy>
  <dcterms:modified xsi:type="dcterms:W3CDTF">2015-11-18T13:18:13Z</dcterms:modified>
  <cp:revision>254</cp:revision>
  <dc:subject/>
  <dc:title>Diapositiva 1</dc:title>
</cp:coreProperties>
</file>